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FA5-461B-4C95-BCF1-A0A6AD3E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6C6-9B6E-489D-8807-F9D05C8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B92-E94C-456A-8D7E-94716E5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B00-0133-44DF-B4C0-775518B1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417F-D0DA-473A-93BD-23EF5E6B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27CB-99FF-46B4-A0BB-557DF983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75DA-217E-47D7-901D-16ADB1B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DA57-677D-4D73-BD7B-DE180E6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281E-D924-4A54-9232-490DCB57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33DE-117C-4467-B889-C88F9A59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9297-844B-4081-966C-55B1751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2E8-DA84-4DD4-8CBA-3CDE9D26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9789-1330-4FC4-B6A8-7778488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CC94-F2B3-4683-9C4F-593AB7C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9EBF-3034-4CA5-9491-67F8ED2A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A4B-3927-4771-B51A-BFC42CB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41F-BA8E-462A-A4B4-3678F1E3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981-8ABD-4910-B72F-E9079DC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06F-1354-4C13-8E16-8AF2BC2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523-B044-4410-819F-A6DCCB04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419-7B5C-4AE9-AC1C-065114C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9FD-7236-4AE0-BEBB-318B5ACD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E1B-B0D7-498C-9DF2-71E8FCF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DA4-BCAB-4F0F-8168-3FA4D97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460-97B7-4D37-8E2D-74B1C301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DF4-DB58-48AD-84F6-C1B5CBB52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2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24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25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26.xml"/><Relationship Id="rId28" Type="http://schemas.openxmlformats.org/officeDocument/2006/relationships/slide" Target="slide44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86400" y="152388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ta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200" y="1523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11-1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2080" y="152388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79760" y="152388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000" y="32418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24560" y="316872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for this symb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971800" y="3276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76640" y="3200400"/>
            <a:ext cx="666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underlining for words, letter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gns, and numbers referred to n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their meaning but for their 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9280" y="316872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950040" y="3124080"/>
            <a:ext cx="74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use from or than with differ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664080" y="3276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406520" y="3124080"/>
            <a:ext cx="66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underline or use quo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long works? For short wo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537280" y="32004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derline, Quo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1371600" y="2286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female pet spaded or spay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818880" y="29718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17360" y="316872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the correct form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t or a lo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5920" y="3168720"/>
            <a:ext cx="50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se hang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6-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89280" y="316872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482840" y="320040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you use real to replace v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not, what can you u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17720" y="3168720"/>
            <a:ext cx="51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, use really or extrem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7360" y="3168720"/>
            <a:ext cx="53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o we use pr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ther than perscrptio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6560" y="3168720"/>
            <a:ext cx="45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 means “before”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ipt means “ to writ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6280" y="3168720"/>
            <a:ext cx="50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se a col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22400" y="3168720"/>
            <a:ext cx="610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a list, when a list foll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verb or preposition, and af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alutation in a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23120" y="3168720"/>
            <a:ext cx="629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mportant book uses co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separate verses and chapt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9280" y="316872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956400" y="3200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1-1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7000" y="3168720"/>
            <a:ext cx="506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lural form o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o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159200" y="3168720"/>
            <a:ext cx="381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W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Fresh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1880" y="3168720"/>
            <a:ext cx="23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nel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0160" y="316872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, priv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11960" y="3168720"/>
            <a:ext cx="41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a dash d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7000" y="3168720"/>
            <a:ext cx="50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parates a word from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t of the sent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4480" y="3168720"/>
            <a:ext cx="46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a hyphen d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09080" y="316872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hyphen glues words togeth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4320" y="3168720"/>
            <a:ext cx="494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sentence correc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are we meeting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529280" y="3200400"/>
            <a:ext cx="63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, because the at can be omit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6640" y="3168720"/>
            <a:ext cx="51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correc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 or Ir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83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these wor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i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us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e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16-2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3240" y="3168720"/>
            <a:ext cx="62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plural for both men and women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 for just 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single fe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single 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plural fem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3960" y="316872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erson’s alma ma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299600" y="3276720"/>
            <a:ext cx="63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that person graduates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89280" y="3168720"/>
            <a:ext cx="57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314000" y="3200400"/>
            <a:ext cx="67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you mind (lending, loan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 the mone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363120" y="327672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1295280" y="251460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spelling clue for the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Surp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Ceme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Sepa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Conven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1-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2057400" y="24382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Surprise -has two r’s and two s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Business –ride a bus if in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Cemetery- 3 e’s for e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Separate- has a rat in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Convenience- Latin word venio meaning “to come” Con means “ togethe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7</cp:lastModifiedBy>
  <dcterms:modified xsi:type="dcterms:W3CDTF">2010-05-19T13:23:45Z</dcterms:modified>
  <cp:revision>22</cp:revision>
  <dc:subject/>
  <dc:title>Jeopardy</dc:title>
</cp:coreProperties>
</file>